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3304-108E-4E0E-82E7-FEDBDDD450F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C16D-60D6-456C-A2A9-481B2B23D8B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幼圆"/>
              <a:ea typeface="幼圆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F95C-202E-400A-920A-0C5562FCD6E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912AD-A179-48B6-8155-6675D91115D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D0FF-B012-473A-8345-EAA8333146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FB2A-2B29-4D9A-A344-0EFFB6C900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5ED67-6859-4B91-A97B-98F5CDB3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E2B8-B355-461C-9BF1-D4EFD5C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9CB44-C670-4F6B-9D8E-8380F87EDC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7EAE-8307-4ECF-8900-54EE3860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9975D-CAC2-490F-BA6E-82B23A9C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3DD9E-7A32-4706-AA24-A654659E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FCD1-1844-42F7-A69F-91308669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EAB5-4969-4A4A-83C4-2F4107CB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0D51C-52CF-4230-A911-79EEFF21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0094-83AE-4B69-ACBD-4B31F51A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5EEE-40BA-405A-8250-D23E65F9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65DD-0E45-4255-B048-C753D7D3D4D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462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第三十六章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楷体_GB2312"/>
              </a:rPr>
              <a:t>抗恶性肿瘤药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四、肿瘤细胞的耐药性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细胞改变跨膜转运机制，减少到达作用部位的药量 肿瘤细胞膜产生特殊的膜蛋白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P-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糖蛋白）加速药物从细胞内泵出 肿瘤细胞改变代谢途径，使药物失去抗代谢作用 肿瘤细胞产生耐药基因，其表达产物能修复抗肿瘤药损伤的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DNA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同时肿瘤细胞凋亡障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46ca6"/>
                </a:solidFill>
                <a:latin typeface="华文新魏"/>
                <a:ea typeface="宋体"/>
              </a:rPr>
              <a:t>五、不良反应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消化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毛囊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肾毒性及膀胱毒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肺毒性：肺纤维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心肌毒性神经系统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肝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神经毒性及耳毒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免疫抑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致突变致畸致癌：干扰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常用抗恶性肿瘤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甲氨蝶呤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M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FH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还原酶抑制剂；强的细胞免疫抑制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儿童急性白血病和绒毛膜上皮癌疗效显著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可加用甲酰四氢叶酸钙减轻骨髓抑制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环磷酰胺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CTX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，属周期非特异性药物；有免疫抑制作用，对恶性淋巴瘤、多发性骨髓瘤、急性淋巴细胞白血病、神经母细胞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骨髓抑制和胃肠道反应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代谢产物丙烯醛会引起化学性膀胱炎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类：肾上腺皮质激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快速溶解淋巴细胞，对急性淋巴细胞白血病、恶性淋巴瘤疗效好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其他恶性肿瘤无效</a:t>
            </a: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;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对慢性的，除减少淋巴细胞数目外，降低血液系统并发症的发生率或使其缓解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5" name="Picture 3" descr="djqjm_ej[1]"/>
          <p:cNvPicPr/>
          <p:nvPr/>
        </p:nvPicPr>
        <p:blipFill>
          <a:blip r:embed="rId1"/>
          <a:stretch/>
        </p:blipFill>
        <p:spPr>
          <a:xfrm>
            <a:off x="6524640" y="3505320"/>
            <a:ext cx="2619360" cy="2743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371600" y="144792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46ca6"/>
                </a:solidFill>
                <a:latin typeface="Comic Sans MS"/>
                <a:ea typeface="文鼎书宋二"/>
              </a:rPr>
              <a:t>THANK YOU !</a:t>
            </a:r>
            <a:endParaRPr b="0" lang="en-US" sz="8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80880" y="2748960"/>
            <a:ext cx="8458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楷体_GB2312"/>
              </a:rPr>
              <a:t>一、恶性肿瘤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机体在各种致癌因素是长期作用下，某一正常组织细胞发生异常分化和过度无限增生的结果。这种现象一旦形成，具有向周围组织乃至全身侵蚀和转移的特性，其生长变化快慢与机体免疫功能有关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正常组织转化而来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是失去整体调控的细胞群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其转归与机体免疫系统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二  、抗恶性肿瘤药的作用及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一）按生化机制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合成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药：烷化剂等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</a:t>
            </a: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药：抗癌抗生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抑制蛋白合成药：抗癌植物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改变机体激素平衡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根据药物化学结构和来源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烷化剂：氮芥类、乙烯亚胺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代谢物：叶酸、嘧啶、嘌呤类似物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抗生素：丝裂及博来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抗肿瘤植物药：长春碱类、喜树碱类等                             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激素：肾上腺皮质激素、雌雄激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杂类：铂类络合物与酶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（三）按对细胞增殖周期作用分类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物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期：抗代谢药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Times New Roman"/>
                <a:ea typeface="宋体"/>
              </a:rPr>
              <a:t>Ｍ期：抗癌植物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99200" cy="469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三、抗恶性肿瘤药的药理作用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一）细胞生物学机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细胞群：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S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、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静止细胞群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生长比率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GF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肿瘤增殖细胞群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全部肿瘤细胞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非特异性药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CCNSA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增殖周期各时项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周期特异性药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(CCSA):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对增殖周期某些时项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ccff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二）生化机制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酸生物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二氢叶酸还原酶抑制剂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:MTX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胸苷酸合成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-F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嘌呤核苷酸互变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6-MP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核苷酸还原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HU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ＤＮＡ多聚酶抑制剂：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Ara-C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7720" y="13716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直接影响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结构与功能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ＤＮＡ交联剂：氮芥、环磷酰胺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铂类络合物：顺铂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破坏ＤＮＡ的抗菌素：丝裂霉素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拓扑异构酶抑制剂：喜树碱类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转录和阻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R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合成：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•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DNA</a:t>
            </a:r>
            <a:r>
              <a:rPr b="1" lang="zh-CN" sz="2400" spc="-1" strike="noStrike">
                <a:solidFill>
                  <a:srgbClr val="8ac8de"/>
                </a:solidFill>
                <a:latin typeface="Times New Roman"/>
                <a:ea typeface="宋体"/>
              </a:rPr>
              <a:t>嵌入剂，如多柔比星和放线菌素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华文新魏"/>
              <a:ea typeface="宋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蛋白质合成与功能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微管蛋白活性抑制剂：长春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干扰核蛋白体功能：三尖杉生物碱类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氨基酸供应：Ｌ－门冬酰氨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影响激素平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宋体"/>
              </a:rPr>
              <a:t>通过影响激素平衡从而抑制某些激素依赖性肿瘤，如糖皮质激素、雌雄激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09T08:51:28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